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23C-B102-40E3-BD7D-686CBFD9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CC7-1555-4CE0-A0D8-8C8E562C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40B-22B0-492B-9C99-F73E4A08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83E-BF68-465B-87E9-74F729D48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8DF-B3BD-4797-A2FC-59C31795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6B3-4336-411A-A650-F87AE3A5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7A0-7AB0-436E-8A0E-8D364696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E6F-F4FA-44DA-B59C-E56B8D26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9494-1815-45CF-8ECA-E7715393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C4F-89A2-44C9-925A-EB033543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767-C203-445C-AEDF-149FF15B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B34-069C-4B13-8E3B-9BA5401D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85D6-7517-4751-8A63-5B9BCDC03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nciples and Plan for Organizing ESA Research Across Tanzania, Malawi and Zamb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oup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ing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F – Zambia: SIML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MMYT and IITA (maize-legume syste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tern Zamb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TF – Zambi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ICRIS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ndnut + aflatox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F – Tanzani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Morogoro (rice); Manyara and Dodoma (maize);  Mbeya (horticulture), et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LES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aize-legume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awi, Tanzania, Mozambique, Kenya, Ethio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illover – Uganda, Rwanda, Zambia, Botsw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IMLES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maize, legumes, livest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act orientation  - shared vision to change livelihoods through integrated interven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untry participation and ownership – not contract resear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gagement of all relevant stakehold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y a lead national partner (research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ignment with national and regional investment and food security pri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ster the systems perspectiv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pacity strengthening to rebuild national capac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suring participation and recognition of farmers’ contribu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nder equity - inclusion of women (and me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coordinator (lead cen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coordinators (assigned by national lead partn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objective or theme leaders (key part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focal points for each theme/obj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coordination by regional/zonal research c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ed report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, national, objective focal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nerships to make this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earch centers (germplasm and technologi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nsion agenc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vate sector (feed, seed, fert, vet, finance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GOs – out-sca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gulatory agencies, bureau of standards, et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nk with other projects (scaling up/out, spillov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ledge management system for the project (website, data, newsletter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novation platforms to support learning and farmer-led innov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exchange vis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ross farming system in each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oss-country vis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ientist and partner exchange vis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field d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ion plots/model fa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ticipatory on-farm tri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ilitating and spillov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 planning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ing of resul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coordinator plus 4-5 reps from country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eld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from SRO for spillovers (CCARDESA, ASARECA, ECA, COMESA,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level (in-kind awards for team wor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level awards to recognize team work and excell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tion of farmer contributions and lead innov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6:19:04Z</dcterms:created>
  <dc:creator>bshiferaw</dc:creator>
  <dc:description/>
  <dc:language>en-US</dc:language>
  <cp:lastModifiedBy>eleborgne</cp:lastModifiedBy>
  <dcterms:modified xsi:type="dcterms:W3CDTF">2012-02-09T09:06:56Z</dcterms:modified>
  <cp:revision>16</cp:revision>
  <dc:subject/>
  <dc:title>Plan and Principles for Organizing ESA Research Across Tanzania, Malawi and Zambia</dc:title>
</cp:coreProperties>
</file>